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16E7-E2D8-41D8-A73C-DE9AD4E1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DFCE-F5EF-4A11-B312-6DE5D219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ABD5-6804-4FDB-8F81-5FA6316C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A7B-E84C-4B53-B79A-6E946871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EA30-096B-45CD-BE76-2E039DB4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743A-86CC-4F60-8133-91BE5D2B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ECAE-4DB0-4F09-8529-86CC2840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5A0B-CA75-459C-BC8D-D5BBD50B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3C12-6EF3-4FA8-88F8-E6B43D0E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309C-48BA-4E2F-B26C-D7987529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0915-A48E-4A2C-BF2A-E8E50773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F42D-F9F7-4E95-85AD-FAA20FB1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7BB8-1441-4516-8A82-07EDB03D8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 Light"/>
              </a:rPr>
              <a:t>7.</a:t>
            </a:r>
            <a:r>
              <a:rPr b="1" i="1" lang="el-GR" sz="3600" spc="-1" strike="noStrike">
                <a:solidFill>
                  <a:srgbClr val="000000"/>
                </a:solidFill>
                <a:latin typeface="Calibri Light"/>
              </a:rPr>
              <a:t>Σωστή στάση του σώματος κατά την μελέτη: (σελ.6</a:t>
            </a:r>
            <a:r>
              <a:rPr b="1" i="1" lang="en-US" sz="3600" spc="-1" strike="noStrike">
                <a:solidFill>
                  <a:srgbClr val="000000"/>
                </a:solidFill>
                <a:latin typeface="Calibri Light"/>
              </a:rPr>
              <a:t>5</a:t>
            </a:r>
            <a:r>
              <a:rPr b="1" i="1" lang="el-GR" sz="3600" spc="-1" strike="noStrike">
                <a:solidFill>
                  <a:srgbClr val="000000"/>
                </a:solidFill>
                <a:latin typeface="Calibri Ligh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388880"/>
            <a:ext cx="6654960" cy="5468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Όταν διαβάζουμε η σπονδυλική στήλη πρέπει να είναι σε όρθια στάση </a:t>
            </a:r>
            <a:r>
              <a:rPr b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κατακόρυφη θέσ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Όταν δεν καθόμαστε σωστά μπορεί να προκληθεί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οπικός πόνο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όπωση κατά τις ασκήσει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ο άτομο δεν μπορεί να ευθυγραμμίσει τον κορμό το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6635880" y="4081320"/>
            <a:ext cx="250812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21T08:11:08Z</dcterms:created>
  <dc:creator>Era</dc:creator>
  <dc:description/>
  <dc:language>en-US</dc:language>
  <cp:lastModifiedBy>ΑΛΕΞΑΝΔΡΟΣ</cp:lastModifiedBy>
  <dcterms:modified xsi:type="dcterms:W3CDTF">2019-02-07T19:48:12Z</dcterms:modified>
  <cp:revision>59</cp:revision>
  <dc:subject/>
  <dc:title>PowerPoint Presentation</dc:title>
</cp:coreProperties>
</file>